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32422"/>
        <c:axId val="53183223"/>
      </c:barChart>
      <c:catAx>
        <c:axId val="70032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83223"/>
        <c:crosses val="autoZero"/>
        <c:auto val="1"/>
        <c:lblAlgn val="ctr"/>
        <c:lblOffset val="100"/>
        <c:noMultiLvlLbl val="0"/>
      </c:catAx>
      <c:valAx>
        <c:axId val="53183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32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903-E555-46D7-87CA-B5CF1DE4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090-655F-46C2-972C-748A5612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E87-3779-4CE4-B91A-F4945B25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020-D689-4274-848B-1FB0ADE7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FAB-61AD-42E3-9F4D-92D437E4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746-1CB8-4CBC-BE9C-8F490828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DA7-0E98-4AB4-8256-F85E3C21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D88-BD67-46D8-8C06-9F87BD09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F76-27AF-4180-BE36-AEB6F856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20C-9DED-49A4-B817-9677812F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0E4-FE78-4946-9D7A-E83F006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96E-E99A-4315-AD7E-1173221A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E0E92-0573-4F37-B89F-F8B8BAF0CF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