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40425"/>
        <c:axId val="77746657"/>
      </c:barChart>
      <c:catAx>
        <c:axId val="77540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46657"/>
        <c:crosses val="autoZero"/>
        <c:auto val="1"/>
        <c:lblAlgn val="ctr"/>
        <c:lblOffset val="100"/>
        <c:noMultiLvlLbl val="0"/>
      </c:catAx>
      <c:valAx>
        <c:axId val="77746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40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CCB-F3D0-46F9-A2F9-58FA7DA4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CD4-2AB3-46C1-9573-58E0167B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433-825D-481F-A911-1E536E30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BBC-C209-44EB-8A74-E9AFEE6F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831-6CFA-4087-8DEB-5D8ED878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5EA-012B-4D6C-A00A-9CDBE40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999-7A63-4B8B-9CDE-3AD0A9C8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386-C0E2-463C-8D15-5D2FCCF8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EBC-893E-4FEE-BA58-AA1E4559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AB8-7D80-4465-AA5E-9674AD99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E7A-29B8-465C-BF1F-233FBF2F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C0A-71D1-4566-9622-AD3FCFB6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FE428-C1C5-4142-A405-74DFB80E79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