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19710"/>
        <c:axId val="27634822"/>
      </c:barChart>
      <c:catAx>
        <c:axId val="32419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34822"/>
        <c:crosses val="autoZero"/>
        <c:auto val="1"/>
        <c:lblAlgn val="ctr"/>
        <c:lblOffset val="100"/>
        <c:noMultiLvlLbl val="0"/>
      </c:catAx>
      <c:valAx>
        <c:axId val="27634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19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9BC-CA77-4D46-94DA-BE1BBC0B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6CC-27F4-43D9-B800-CC7E3737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F83C-9BEC-4743-A850-29292A1E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A12-900B-4464-84E1-592FC154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259-D786-49A9-88A5-6C5C58E1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2EA-D217-4EBA-AA4F-698FB6D0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28A-3CBC-4A59-B5FD-0B50ACE9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AB6-B894-40E3-933D-19EBF68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85C6-75C1-4C96-8EB0-4301C23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45C-0C10-4824-BE6D-7D4006D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406-9242-42D8-A1C7-9CB07A3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D45-9B42-4D14-B329-907B5D7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5513-5522-440C-A5BF-86D90EF9E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