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48722"/>
        <c:axId val="27020389"/>
      </c:barChart>
      <c:catAx>
        <c:axId val="12248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0389"/>
        <c:crosses val="autoZero"/>
        <c:auto val="1"/>
        <c:lblAlgn val="ctr"/>
        <c:lblOffset val="100"/>
        <c:noMultiLvlLbl val="0"/>
      </c:catAx>
      <c:valAx>
        <c:axId val="27020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8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78B-7B1B-41B8-B086-E592AAFD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5A7-6FAA-480F-86C0-B871A642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264-5349-41EF-867E-CE7059F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15F-F9E1-459C-A0B9-17F22485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983-90C3-418F-A3C4-75E07F32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EF1-A582-44AB-AEC8-8CBCA21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B2-41BF-4775-8D4B-FD81F8F1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417-F684-4FD2-B9D9-DC0F011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4F8-A66B-4F23-BBFD-B06CC10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A6C-00DC-4871-B621-4EEFE62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07A-0323-4186-81DA-D4D611A8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390-E715-4E16-93D8-7C797B2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3D50B-0466-4F13-ADDF-B1B10EB45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