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65463"/>
        <c:axId val="57231147"/>
      </c:barChart>
      <c:catAx>
        <c:axId val="40665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31147"/>
        <c:crosses val="autoZero"/>
        <c:auto val="1"/>
        <c:lblAlgn val="ctr"/>
        <c:lblOffset val="100"/>
        <c:noMultiLvlLbl val="0"/>
      </c:catAx>
      <c:valAx>
        <c:axId val="57231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65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98B-6304-407E-B6FF-1C9DF9F5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FE6-FBD2-48B5-A4C9-31C38A21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DD7-36B1-4431-9DBB-BD22EFD0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E86-44FA-4221-860B-91320745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58D-BFB7-4322-9176-41CD68C3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F5B-EFDE-4150-811D-72074FC4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601-2D6B-4BF1-ACA1-E9A6CC21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C60-AB43-457C-A3CB-3269FB33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3E7-6CBE-49E5-AC84-18E81C28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F78-2FB4-4000-B8A1-FC3029C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042-9AFD-4646-9E2E-3C56A1DC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84E-F28D-43DA-902A-B26E2F8D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C75E4-377F-4EAC-901B-0437FA1DF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