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73779"/>
        <c:axId val="48564146"/>
      </c:barChart>
      <c:catAx>
        <c:axId val="422737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64146"/>
        <c:crosses val="autoZero"/>
        <c:auto val="1"/>
        <c:lblAlgn val="ctr"/>
        <c:lblOffset val="100"/>
        <c:noMultiLvlLbl val="0"/>
      </c:catAx>
      <c:valAx>
        <c:axId val="48564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737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04B7-8D48-4DDB-9CD6-9883327F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076-C0E6-4BC4-BF06-1994F1F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313-74DA-4E79-95EC-93D69A49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514-6574-4DD4-8A02-CD0F35A8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6CD-B954-45E0-8C52-37288998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80F-7F8E-46E6-BF10-75F10419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005-4481-40E9-964F-1D00411D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F397-C774-4CF3-94D2-0C81656A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135-EC6E-4F8E-90BC-92FE3AC9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25B-BAA8-42C9-BF14-9E3F6852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FD6-190F-4D62-BFFF-F89AA32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E1D-8F84-4883-93A6-995F1B6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F1484-3492-4B2F-81AC-93201D4C2C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