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490969"/>
        <c:axId val="1357029"/>
      </c:barChart>
      <c:catAx>
        <c:axId val="274909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7029"/>
        <c:crosses val="autoZero"/>
        <c:auto val="1"/>
        <c:lblAlgn val="ctr"/>
        <c:lblOffset val="100"/>
        <c:noMultiLvlLbl val="0"/>
      </c:catAx>
      <c:valAx>
        <c:axId val="13570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909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77A-E44D-4056-AC6C-35EAC1CD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98D-906F-44F3-90FD-3D0B0907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F1A3-FEF8-4509-B3AC-AB30A51A1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D69-7680-49AC-9244-D4EC29D1C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1E11-73BA-4536-88BF-E5655A94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EBF6-C3AA-4118-84D9-7B9ECD0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BE4B-D833-444F-90E6-AB0161BD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DBF-E5E0-4361-9785-624D19BC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C13-65BF-4344-A189-509FE7D45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EAB-30DE-4903-A00D-EC6567B1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7ADF-BF0F-455D-940A-6E201C1B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D06-A692-4B75-AA74-B65F4E88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F4F33-1FE4-4DAF-AC9B-79AADA6F30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