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3272"/>
        <c:axId val="17604744"/>
      </c:barChart>
      <c:catAx>
        <c:axId val="7043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04744"/>
        <c:crosses val="autoZero"/>
        <c:auto val="1"/>
        <c:lblAlgn val="ctr"/>
        <c:lblOffset val="100"/>
        <c:noMultiLvlLbl val="0"/>
      </c:catAx>
      <c:valAx>
        <c:axId val="17604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3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A57-7460-46FC-9447-2D9A2A9F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9D0-29AE-4DB2-B424-C3D11DC1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B97-B765-47EA-BCB1-BC0755A3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B7F-4BA4-4218-89D0-78C18C24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6D8-3569-46EB-B379-709AB0D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1D1-96A6-4B69-B5F7-4DE72DF7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584-D423-48F7-BAC9-5892189B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AE7-70EF-4D64-A44E-97CBA306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FE8-780E-4DD4-BA04-09C0FCE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58A-A78C-43F7-BA5B-53256FE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72F-036D-4756-8DCA-5FE3414F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82C-B3D8-45D6-8087-22B9F9CA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73C8E-5BBD-4568-93BA-02CD17A1A3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