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16513"/>
        <c:axId val="1156285"/>
      </c:barChart>
      <c:catAx>
        <c:axId val="97616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6285"/>
        <c:crosses val="autoZero"/>
        <c:auto val="1"/>
        <c:lblAlgn val="ctr"/>
        <c:lblOffset val="100"/>
        <c:noMultiLvlLbl val="0"/>
      </c:catAx>
      <c:valAx>
        <c:axId val="1156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16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744-B1C9-45BB-9803-C86D45F4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046-47A1-4746-9549-8F528961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CC1-3ECF-4E21-BDC1-BD272250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1B55-76BF-4227-8AB0-289509CA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432-4EC0-40ED-84BB-C6BB9DA3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35BA-8127-4E1A-B56C-04296A8F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CF9-EA85-4334-88A1-DC1A1116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6DE-0867-43D2-BD4F-2B680BDE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46F-353C-4208-AFFB-B7587701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CFE-F714-4606-9E2A-B844B4B0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941B-D820-48E9-9340-BC24AD64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5E2-E900-4E41-BA04-0EC4FF15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42EDA-7583-4588-9949-76935CABA4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