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41328"/>
        <c:axId val="91748882"/>
      </c:barChart>
      <c:catAx>
        <c:axId val="12741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48882"/>
        <c:crosses val="autoZero"/>
        <c:auto val="1"/>
        <c:lblAlgn val="ctr"/>
        <c:lblOffset val="100"/>
        <c:noMultiLvlLbl val="0"/>
      </c:catAx>
      <c:valAx>
        <c:axId val="91748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41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494-20EB-4BBC-B04A-E861BCFC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9EF-C0DD-4BE8-A1D5-3B06D912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5C6-06B5-467C-AF87-A624F174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D30-56D6-4DE6-95CD-614DF777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672-A5F5-47D5-81E8-CEBC20A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B30-FF4A-492B-BCBD-6D0E95A5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746-8B99-4765-9AD6-01CE80F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3DD7-5FE2-4B52-B5B9-7D95D394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7E7-830C-4302-B7A1-B9E1A988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EF5-08CC-4369-9B7C-DD6AE0A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C51-C2DD-4C80-BBB3-6782CDB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D49-8320-45C7-BEBD-28B5812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D9E2B-1C22-4048-A069-38F865D48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