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6265"/>
        <c:axId val="72995745"/>
      </c:barChart>
      <c:catAx>
        <c:axId val="2996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95745"/>
        <c:crosses val="autoZero"/>
        <c:auto val="1"/>
        <c:lblAlgn val="ctr"/>
        <c:lblOffset val="100"/>
        <c:noMultiLvlLbl val="0"/>
      </c:catAx>
      <c:valAx>
        <c:axId val="72995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6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3F8-BEE8-4B04-AFE7-16EDCF64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0DB-0945-46BB-A6B4-B56D337C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DFD-6239-4ED1-B55C-62BA2B6F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D71-AD1F-4565-8E5F-3596752E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7B6-E9E4-4845-9656-C867031C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21F-8E67-4494-94F9-C7697090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8A1-089E-4CA8-8079-0CDB5294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0A1-7189-4400-87F0-E777DD71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565-36CF-4876-953C-FB7EEC8B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CB1-B5D3-4294-AF52-96CB818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4D3-7906-4D23-93CB-FF1F45B8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B3D-1F18-4784-A213-AB032DAE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5F348-CA6C-43F7-9F9C-371C3ACB55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