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16944"/>
        <c:axId val="43934494"/>
      </c:barChart>
      <c:catAx>
        <c:axId val="71516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34494"/>
        <c:crosses val="autoZero"/>
        <c:auto val="1"/>
        <c:lblAlgn val="ctr"/>
        <c:lblOffset val="100"/>
        <c:noMultiLvlLbl val="0"/>
      </c:catAx>
      <c:valAx>
        <c:axId val="43934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6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49F-8CAB-4665-B90B-081B9A39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270-E00C-4707-BCF1-963DEC9D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288-6F07-42A2-9CA6-B55D057E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1EC-30CB-4D0D-A15D-71EA5A34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D43-3992-4949-99F3-30463A44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B8B-782C-49B2-99A4-9CF966C7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3CC-31E4-46C2-B08A-9A3F933D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D9E-7643-4A4F-9929-4883CA87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F62-13FC-4FCE-8C07-58817D93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C2A-7C98-44AB-B88D-45A4828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434-71F3-4998-8DDF-524CB73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35E-3593-4C2A-BF43-4FD64AAE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1141-758D-4C05-AC7A-468836FA6D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