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45672"/>
        <c:axId val="38955060"/>
      </c:barChart>
      <c:catAx>
        <c:axId val="62645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55060"/>
        <c:crosses val="autoZero"/>
        <c:auto val="1"/>
        <c:lblAlgn val="ctr"/>
        <c:lblOffset val="100"/>
        <c:noMultiLvlLbl val="0"/>
      </c:catAx>
      <c:valAx>
        <c:axId val="38955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45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862-5363-4875-8B62-A53ACB6D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CD4-004E-4D63-9B27-75363A3D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AEA-9DB8-450A-938C-15821C8F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0D3-E3F0-463F-913A-13A2E70A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A45-F131-4E07-BAE1-7EF65F28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444-6FF0-4FCA-B0F4-67F9607C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EBF-30D6-4A4B-9FBA-13988436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B4F-BE9B-41C0-A0EE-E96408D0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D9B-0D2C-4308-89DE-547943B8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4D0-B051-4EDE-902F-D2FBC8C6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E13-D28A-445B-A61E-8AF8D66C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4EE-C5FA-4245-A668-258D8771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42D9D-79BD-4F8B-9553-996EAA0170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