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85184"/>
        <c:axId val="38926570"/>
      </c:barChart>
      <c:catAx>
        <c:axId val="88485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6570"/>
        <c:crosses val="autoZero"/>
        <c:auto val="1"/>
        <c:lblAlgn val="ctr"/>
        <c:lblOffset val="100"/>
        <c:noMultiLvlLbl val="0"/>
      </c:catAx>
      <c:valAx>
        <c:axId val="38926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85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C7D-CB9E-4F97-B5FE-06CB8D0D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435-891F-4A92-93B5-9F5B7E5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6AB-C567-44BF-B9DD-D5E1A252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922-9F1D-4B1C-8552-F2979048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F32-DD6C-4C9F-9329-46C3A1D2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D07-2AB2-477F-B309-4868DA92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E44-C23F-4D1C-85D8-D0865FF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A8B-C0CF-49CA-9C5B-1E8699E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D7C-277E-4F1B-A882-8D47E4F1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297-8CFC-47ED-B1A9-9A46F91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7BA-4EAB-4148-AC59-0344942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3B4-B1CB-4601-BF29-3A560F7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CD134-51E2-45D0-97E0-8603E909DA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