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30338"/>
        <c:axId val="93381478"/>
      </c:barChart>
      <c:catAx>
        <c:axId val="54330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1478"/>
        <c:crosses val="autoZero"/>
        <c:auto val="1"/>
        <c:lblAlgn val="ctr"/>
        <c:lblOffset val="100"/>
        <c:noMultiLvlLbl val="0"/>
      </c:catAx>
      <c:valAx>
        <c:axId val="93381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0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D69-F3CC-4F48-8B94-71E21489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40B-389F-4492-B93A-4624F7B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D8F-05BE-45FF-A7E0-525B5B1B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969-BC86-4C58-9727-5DA2B3F9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939-C041-414A-9200-AA2DA181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DBF-A164-4791-B19C-A89FE387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6B4-3A6B-4B85-901A-C14E4849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F4D-2552-441E-ADDD-496F51E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E97-C9D5-4EB0-9737-0F79005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044-CA84-4DD7-BDE6-EDAA6995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002-32EA-4BF3-8673-B72E7C2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494-AAAD-4E99-9ECD-EF4447B4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CEA04-A51D-4813-8153-9FFC449DED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