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58898"/>
        <c:axId val="71444888"/>
      </c:barChart>
      <c:catAx>
        <c:axId val="39858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4888"/>
        <c:crosses val="autoZero"/>
        <c:auto val="1"/>
        <c:lblAlgn val="ctr"/>
        <c:lblOffset val="100"/>
        <c:noMultiLvlLbl val="0"/>
      </c:catAx>
      <c:valAx>
        <c:axId val="71444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58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4C8-C7BC-44CD-BD61-E15120A0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1F-762B-47CB-B3DA-D22F8B7D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982-731F-4C20-A7D2-D982B466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5EC-A735-4179-B34F-8DF40435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FCF-F3F7-4495-8847-6BDBB92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1C6-71A8-485D-9B61-8B7384D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41D-9E66-4D03-8900-7CC437C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8D2-9CB9-4640-BB81-8E7904AE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295-7C46-4910-94CD-39FC892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436-5F8E-41EF-A315-7871C5B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BFD-4205-489A-B35C-35B7279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FDC-31E2-467B-976A-91FCDFC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444C0-D0CE-4437-A15F-F92093551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