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5883446"/>
        <c:axId val="95347812"/>
      </c:barChart>
      <c:catAx>
        <c:axId val="3588344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347812"/>
        <c:crosses val="autoZero"/>
        <c:auto val="1"/>
        <c:lblAlgn val="ctr"/>
        <c:lblOffset val="100"/>
        <c:noMultiLvlLbl val="0"/>
      </c:catAx>
      <c:valAx>
        <c:axId val="9534781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88344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1C67E-0696-4916-B2FD-F4754BB19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EE80C-BF5C-4FFB-B954-F5A800001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0AE3C-699D-43BA-A77B-466DB0D41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5977E-3F22-480C-BD00-4CBE10F59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BBBE9-A0F3-4177-B5FA-A53485C1C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11A08-FE37-40F6-AD8A-58DEF9CDE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21E48-7B67-4E47-8822-7D5D25F73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B3FA2-A1C7-4ACE-9DC6-9F5188F8B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F2CFD-561C-4140-97E1-3664646A5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64349-B3D4-4B45-996B-7CF725405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ADF01-D8D8-4F0F-922C-4B3BF6E5B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44C31-219C-4ADC-9C15-FC7EC439F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5933D7-7E92-40A5-82A4-6E586F5DE10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