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82370"/>
        <c:axId val="43966000"/>
      </c:barChart>
      <c:catAx>
        <c:axId val="46782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66000"/>
        <c:crosses val="autoZero"/>
        <c:auto val="1"/>
        <c:lblAlgn val="ctr"/>
        <c:lblOffset val="100"/>
        <c:noMultiLvlLbl val="0"/>
      </c:catAx>
      <c:valAx>
        <c:axId val="43966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82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048-96D8-4E78-AADF-3C46F16E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C13-54D2-4848-B5EC-F06369F3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BEE-DE18-4E58-B0C5-F70C2A9C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2B6-5450-489F-AEC0-69389C4A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FFCD-D679-45DF-A5BB-C6736BEC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BF8-2EA1-40EB-B7B4-6274A348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656-30B4-4591-A9EA-82CFEBCA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040-6C12-4747-B7AE-EABBEC2E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056-A40E-49C2-8104-AF8F4875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69B-45E8-4228-A8A5-D4848B72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972-3486-42A6-8718-FA969AAD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3BA-C597-4E05-83AB-EA1AF171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729B8-B40A-4702-8312-FCDF5DCBB0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