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05771"/>
        <c:axId val="85015291"/>
      </c:barChart>
      <c:catAx>
        <c:axId val="67005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15291"/>
        <c:crosses val="autoZero"/>
        <c:auto val="1"/>
        <c:lblAlgn val="ctr"/>
        <c:lblOffset val="100"/>
        <c:noMultiLvlLbl val="0"/>
      </c:catAx>
      <c:valAx>
        <c:axId val="85015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05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4D8-06F0-4FAB-8328-E6C873BA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96D-79BF-4D66-BF21-B6FE30CA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D7F-2694-4E54-86C7-6E963E59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9F8-E72A-4621-83D0-39369121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571-668E-4FBE-BC80-53FAA87E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AD2-BE9A-42B8-8D72-320F1678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A7E-3FFD-4BA2-8827-A14074EC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6E9-D3BD-4399-B13D-C6255FFC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501-9BEF-4E56-BBDE-5DF95753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42E-DD0C-435E-9C83-53FF5210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159-6D3C-41B7-98B5-E0369EE1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056-E43C-4C83-93F2-EA053200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01DA5-B9AF-45BA-9BDC-54A3FCA4D7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