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64056"/>
        <c:axId val="26276370"/>
      </c:barChart>
      <c:catAx>
        <c:axId val="76464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6370"/>
        <c:crosses val="autoZero"/>
        <c:auto val="1"/>
        <c:lblAlgn val="ctr"/>
        <c:lblOffset val="100"/>
        <c:noMultiLvlLbl val="0"/>
      </c:catAx>
      <c:valAx>
        <c:axId val="26276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64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B30-25D5-46D9-B1D1-D6A48439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6F9-F2B0-4CFA-A013-F3FFB40B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A01-2F58-4F39-8E52-FF420F54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8ED-BF9A-4260-8754-F0E5F531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23E-743E-4200-9697-66B65E7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7F2-3A6E-4AD1-A205-14B47941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C73-CC97-4484-AFF6-FDEDF9CD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986-A9C7-42A1-A868-F3741CD3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EA7-5B04-484E-B565-27322C82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4B7-7DFC-432F-9B3A-EA555DC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321-CC36-48FE-A81A-9DCEB57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460-C649-4FD4-974F-AFCDC5B2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0A139-21D4-4CC0-BEF0-C5ECECDCC5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