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027152"/>
        <c:axId val="50607027"/>
      </c:barChart>
      <c:catAx>
        <c:axId val="980271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607027"/>
        <c:crosses val="autoZero"/>
        <c:auto val="1"/>
        <c:lblAlgn val="ctr"/>
        <c:lblOffset val="100"/>
        <c:noMultiLvlLbl val="0"/>
      </c:catAx>
      <c:valAx>
        <c:axId val="506070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0271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3E44-3D34-40CD-BFD1-3682FBD07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DC58-DD20-4739-9BAC-34571E0E9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6B7B-F003-4387-8949-3D2E3E716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92C2-E07E-40E7-A1A4-FA045D387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5FBE-CA12-4169-A01B-6613C643B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B005-698B-4B8A-A175-BD2AF6339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EC9C-9D02-4BC3-9B16-2F58DB3FB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B760-3E1B-4AD6-BBB7-5AE3FE9E0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EA1C-8017-443C-9E5C-01B876363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C65B-AB91-4A44-B8EA-F317278A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CC26-59EA-48B7-988F-A0306417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258C-5B74-4456-9E67-BC082AED7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906097-E3E7-4999-B112-14BDFB6BE9E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