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41261"/>
        <c:axId val="7414596"/>
      </c:barChart>
      <c:catAx>
        <c:axId val="90141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4596"/>
        <c:crosses val="autoZero"/>
        <c:auto val="1"/>
        <c:lblAlgn val="ctr"/>
        <c:lblOffset val="100"/>
        <c:noMultiLvlLbl val="0"/>
      </c:catAx>
      <c:valAx>
        <c:axId val="7414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1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047-38C2-457E-8DDF-964F183F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9AA-D206-4DC3-909E-90A91C38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608-DD77-4FA0-91D1-0F44B597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E40-FE85-4C65-9F28-821E1A85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F13-6D26-48D6-BAFC-78A198CA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530-E842-4A57-914B-56CDD05D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EE9-5F67-4998-8CD8-0406B86D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4F1-0475-4923-99CF-1DEE1D06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250-D6EF-48E4-810E-4BEFDF18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9B9-9DC3-47E3-8978-EBEC482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EB8-5A0B-404F-883E-9DAA3DB2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96A-4B42-41B2-8611-0370F05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19B4-3247-4CD1-8D0B-9DF37D683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