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86501"/>
        <c:axId val="54487656"/>
      </c:barChart>
      <c:catAx>
        <c:axId val="88386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87656"/>
        <c:crosses val="autoZero"/>
        <c:auto val="1"/>
        <c:lblAlgn val="ctr"/>
        <c:lblOffset val="100"/>
        <c:noMultiLvlLbl val="0"/>
      </c:catAx>
      <c:valAx>
        <c:axId val="54487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86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064-EDAE-4B8E-BF15-2F658440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9B1-2524-4F4C-A7BB-27B3C74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4C5-5B1E-48D1-A19D-31730A6C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5A3-7C71-475F-A7D8-71DDE44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1AA-4655-4785-AECC-156AB4D8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415-6387-4F35-9E94-303817C2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931-D5CC-44B8-97ED-4B85EC1F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9A6-A10F-4C49-9747-680673B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C20-2416-4E34-A6E4-BEC04CC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9D0-F53A-4955-A46B-4C829A7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697-74DE-4A37-8180-0E99F16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BC4-A8E1-4CFE-A501-39417C5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F003B-6FA8-4FBF-8B38-BD11E3B1F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