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6485"/>
        <c:axId val="83727690"/>
      </c:barChart>
      <c:catAx>
        <c:axId val="7526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7690"/>
        <c:crosses val="autoZero"/>
        <c:auto val="1"/>
        <c:lblAlgn val="ctr"/>
        <c:lblOffset val="100"/>
        <c:noMultiLvlLbl val="0"/>
      </c:catAx>
      <c:valAx>
        <c:axId val="83727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6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1EF-4BC7-4A43-B894-7DD79D64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1F2-8E37-4902-9753-319B23A3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782-68BE-48F8-93E7-2EB0D6ED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C6D-5888-43B8-8925-06414C54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B70-21C1-49E1-88FF-800EF52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6FC-1BC9-4219-8DAB-C67BAA84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8FC-086B-4483-A13D-54404A0A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588-4308-4AA8-9F0D-0AAEBC4E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142-85BE-46FA-881E-E62B73CD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D25-FCBC-41F9-93EA-5208638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CDF-ECBC-4380-9508-4B80DE39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C93-9BEC-4636-8D72-B9D02824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B4C92-0FAB-4688-B909-C73DFC4905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