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86064"/>
        <c:axId val="5462221"/>
      </c:barChart>
      <c:catAx>
        <c:axId val="10886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2221"/>
        <c:crosses val="autoZero"/>
        <c:auto val="1"/>
        <c:lblAlgn val="ctr"/>
        <c:lblOffset val="100"/>
        <c:noMultiLvlLbl val="0"/>
      </c:catAx>
      <c:valAx>
        <c:axId val="5462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6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B20-E6C8-4AD3-8005-BDE4EE88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B95-2178-482E-A27D-4BD86D66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67E-6728-4949-A76F-F9EA0D70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CDA-AF29-4042-A26A-D96B32FD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171-BEF7-40AD-922F-F5607229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F2A-BF91-4042-90E5-BEF7F116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7D2-8EB3-4D27-A169-CEC7DAD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681-40F6-4004-B3FA-57ABA616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ABE-21C3-4A0B-8B85-B7F9986F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BB6-6CE7-4F3B-84C1-FBA2168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F8E-A762-430A-B2A9-1A2E3AF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7E5-A021-4ECB-BFC7-473E9A74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4F2BA-7E69-441E-A8C7-2F4635F2F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