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52359"/>
        <c:axId val="71745296"/>
      </c:barChart>
      <c:catAx>
        <c:axId val="58523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45296"/>
        <c:crosses val="autoZero"/>
        <c:auto val="1"/>
        <c:lblAlgn val="ctr"/>
        <c:lblOffset val="100"/>
        <c:noMultiLvlLbl val="0"/>
      </c:catAx>
      <c:valAx>
        <c:axId val="717452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23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E441-B98D-4CBB-A8B0-D6064E7F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F60C-3FC6-4504-B410-4C133C78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8DBA-5D16-418A-AA03-85CFEC39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2AF8-0E85-4278-B9C2-FE44C8D1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E033-A80D-4CC2-A01B-AF827AF0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03DA-5080-495E-8EE0-12E73AC8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3C0-3CAA-4AF0-8E1C-88C7A3D7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B30F-2025-4FEA-8F74-74B25779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81DF-C980-4098-A3FD-6C3C350E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6809-0645-4994-A282-4BAB9537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405E-BF23-4074-9F96-BD3203BF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F4E7-11B4-4177-89E2-D0B9ACD5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0FB3F-F82D-4153-BCA8-E4DB5BC599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