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94206"/>
        <c:axId val="90732287"/>
      </c:barChart>
      <c:catAx>
        <c:axId val="16294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2287"/>
        <c:crosses val="autoZero"/>
        <c:auto val="1"/>
        <c:lblAlgn val="ctr"/>
        <c:lblOffset val="100"/>
        <c:noMultiLvlLbl val="0"/>
      </c:catAx>
      <c:valAx>
        <c:axId val="90732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94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293-7DB1-4181-A513-E7AEB5C6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A29-D59F-4D00-A37A-AF8649E0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91F-9BDD-423B-8E1E-C468B69B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409-0A57-4BC7-A16C-910BB5BF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EAD-E4BE-484A-BFD0-F52DF1E2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8B1-4045-43F1-A251-B00A575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7ED-CBE2-4D2D-A499-64C4681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1D1-D8A8-4A0F-B12B-22A4E0E5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9E7-9157-4711-A8A5-617B895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BB3-0BD6-417A-99D9-07E9A17C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241-03AF-4891-836B-B0A8003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3F0-E2FA-4EC4-9414-B49852D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6994-C1FB-4142-90B0-435C550B18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