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83903"/>
        <c:axId val="57399239"/>
      </c:barChart>
      <c:catAx>
        <c:axId val="77483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99239"/>
        <c:crosses val="autoZero"/>
        <c:auto val="1"/>
        <c:lblAlgn val="ctr"/>
        <c:lblOffset val="100"/>
        <c:noMultiLvlLbl val="0"/>
      </c:catAx>
      <c:valAx>
        <c:axId val="57399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83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D78-21AC-4112-BB7D-FD344394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E7E-1A0A-4B05-BC9E-5110E57B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34E-8F46-43DC-A3C7-55C27769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65E-A495-4225-9CA3-25A0357A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6AB-C255-40BC-BF8C-6202B609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875-C30D-4DD4-8F2D-7BF6AB56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549-C98A-40E9-B629-35D46ECD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7A3-61C7-4DA2-910D-CD763600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311-697B-46C3-87FB-C4BA5953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81E-87BB-441B-849E-DC8BF125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139-074C-4010-83A3-32FF765B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820-F1C4-4D5E-957F-940FA963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86EB3-103E-4D59-9A29-577B1E520F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