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48067"/>
        <c:axId val="1782379"/>
      </c:barChart>
      <c:catAx>
        <c:axId val="43148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2379"/>
        <c:crosses val="autoZero"/>
        <c:auto val="1"/>
        <c:lblAlgn val="ctr"/>
        <c:lblOffset val="100"/>
        <c:noMultiLvlLbl val="0"/>
      </c:catAx>
      <c:valAx>
        <c:axId val="1782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8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9E1-AB15-437A-BC0E-4CB54CE4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55A-DF2D-4744-9349-7130918B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32C-B3E1-4838-B51D-609D5CC1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B8B-4EB7-4A36-A0E3-BA40F860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7CD-465D-4243-BBE4-7401E9B8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622-1000-4D16-8119-9501752E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FF9-4489-477B-90CC-EEF44206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213-476E-4A2D-9DFC-177C9F6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A51-30FA-4AEA-B2D8-1048671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96C-8E24-4911-9C61-E678E2C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D13-83E9-4444-A95F-D54E346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39E-7C78-4FC7-BE43-F49A28DC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81D9E-B4B8-4902-8CEF-8D2A73027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