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02999"/>
        <c:axId val="68838263"/>
      </c:barChart>
      <c:catAx>
        <c:axId val="685029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38263"/>
        <c:crosses val="autoZero"/>
        <c:auto val="1"/>
        <c:lblAlgn val="ctr"/>
        <c:lblOffset val="100"/>
        <c:noMultiLvlLbl val="0"/>
      </c:catAx>
      <c:valAx>
        <c:axId val="68838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029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D65-7AF5-4DC9-A82D-3FFB686E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C2B7-1597-4293-8A52-41F9A652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B16-2C57-4CAC-B46A-0296F948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954-6D8F-4B7D-92CA-7C673D22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E918-3A6E-4722-9E8B-CD97CD66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72F-E6CE-483D-9771-DC7F075A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664-C4A0-4068-8395-AA23408D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841F-AD36-495B-B69C-ADA1A874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499D-A592-43A6-A4A5-1E54C8156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5EC-6A59-4F2E-8BDB-7F214A7A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3C67-997A-4086-BCCB-CFCFD72B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140-6921-4EA9-91E7-D037F16E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93254-FBB1-4C3A-868C-A22A239EBF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