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732307"/>
        <c:axId val="15049540"/>
      </c:barChart>
      <c:catAx>
        <c:axId val="357323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49540"/>
        <c:crosses val="autoZero"/>
        <c:auto val="1"/>
        <c:lblAlgn val="ctr"/>
        <c:lblOffset val="100"/>
        <c:noMultiLvlLbl val="0"/>
      </c:catAx>
      <c:valAx>
        <c:axId val="150495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7323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9E14-A40F-434A-9668-1ABFBCB4C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ECA7-9E8E-4513-A963-DAE024A3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1663-D707-4CC6-A1B8-2E41B676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0496-32D7-4FAE-B348-BB83BC27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F065-B915-4789-BD7C-21C8B2DA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5E7A-58B5-450D-AA93-D14F76CF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E803-80A8-4E25-96D1-2EF5F13D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F48D-53FE-4564-A362-15DC89B0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C679-B7D7-42A1-93DB-CDFD4625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93AB-7044-4E6B-A19F-8CE1850E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EEF5-B9C6-4F2A-99EE-80C24BA8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9E86-B23E-4D19-8649-45E3BF3F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35953-7120-4D31-8872-F28E80482F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