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91659"/>
        <c:axId val="5924401"/>
      </c:barChart>
      <c:catAx>
        <c:axId val="52691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4401"/>
        <c:crosses val="autoZero"/>
        <c:auto val="1"/>
        <c:lblAlgn val="ctr"/>
        <c:lblOffset val="100"/>
        <c:noMultiLvlLbl val="0"/>
      </c:catAx>
      <c:valAx>
        <c:axId val="5924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91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C7E-41DE-416A-B8EA-11A082980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378-7169-4499-9F12-12C7B520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254-721A-413B-86C3-60708B79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CFD-09D1-4D1B-A48F-A008C75C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244-C8D5-4ADC-BE0E-877B1D48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A09-4BD4-43C7-A1A8-C38A5656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E8B-9330-451F-BDF8-1FFAEB9E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91F-DE84-472D-9B17-217C5C1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F0D-C409-47C5-B0F5-4D7C3F4F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511-006E-47DA-8D0D-1A5B1DC2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C55E-7D07-4039-8C70-8C98992D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FCD1-D9AC-420C-934D-96A05E4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87E70-098A-4D1B-AAB5-2DA9C28BE0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