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07880"/>
        <c:axId val="80609780"/>
      </c:barChart>
      <c:catAx>
        <c:axId val="69407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09780"/>
        <c:crosses val="autoZero"/>
        <c:auto val="1"/>
        <c:lblAlgn val="ctr"/>
        <c:lblOffset val="100"/>
        <c:noMultiLvlLbl val="0"/>
      </c:catAx>
      <c:valAx>
        <c:axId val="80609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07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8E7-DBFD-48E9-967A-6F382716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A39-69B0-4E56-9486-E79F8F45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DD7-3962-4D89-AC1F-35EF57C3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B2B-DF89-4158-AC72-0525B4D1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481-5B80-48CC-80F9-4412596B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F14-102D-4AC8-8C33-3DDB5D5C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53E-73F1-468A-98F7-5959DA99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837-8B0F-4774-89FB-5174F0F9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58E-5E1C-4117-82BF-B3FDE02E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6AD-7C81-49BE-9E7E-8265113D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D3A-7368-4EB1-84E0-A8F83F10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DF9-6CE2-47B2-A1A4-88A4DCFB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E8BF8-4455-422B-9DF3-2F87070EB7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