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261690"/>
        <c:axId val="65129912"/>
      </c:barChart>
      <c:catAx>
        <c:axId val="502616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29912"/>
        <c:crosses val="autoZero"/>
        <c:auto val="1"/>
        <c:lblAlgn val="ctr"/>
        <c:lblOffset val="100"/>
        <c:noMultiLvlLbl val="0"/>
      </c:catAx>
      <c:valAx>
        <c:axId val="651299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2616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0B97-C459-4612-BE6F-1060600B4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FD0E-AC84-4F54-9F66-8E28C51B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44A7-A03A-4BBF-944A-55579CDCB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2B0D-E82B-430C-8509-5185A18A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B081-D805-4E11-9573-19B3B43CB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49D7-B2D2-42CD-9A54-2FE3F4ACE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510D-88A9-40D3-924A-3EBAF6AA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4658-16C3-401A-B567-565A45198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B453-9482-45A5-9ABA-C59B334A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026-7D9B-4EAC-905C-98D12102E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BAF8-A168-426E-B0C6-40516B70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515E-5F44-4E34-BE26-50BE4B9D7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CEFD7-98CE-4C40-819C-474FD6D1F2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