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44318"/>
        <c:axId val="80063197"/>
      </c:barChart>
      <c:catAx>
        <c:axId val="48644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63197"/>
        <c:crosses val="autoZero"/>
        <c:auto val="1"/>
        <c:lblAlgn val="ctr"/>
        <c:lblOffset val="100"/>
        <c:noMultiLvlLbl val="0"/>
      </c:catAx>
      <c:valAx>
        <c:axId val="80063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4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C22-1500-4F2B-B302-0E78D7DC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11B-841E-423D-B7CF-799E607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EC2-606B-426B-A896-F47D629D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8B9-42E8-44CF-8577-932182A8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B23-0B76-474C-906D-F72B6C0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45B-9D26-46EE-AABA-F7BBC8C0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F8C-9113-4A03-B83A-34B77EA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95D-0A6E-4217-B0FB-9E1DE0D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B5E-D270-4C65-977E-73D2157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5E7-1909-437B-B961-03246C4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B3D-B84B-4362-80CA-05ECC83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9F6-BA1C-4633-8122-3E7E0DA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42756-C43E-4BBA-A19B-7D72782F8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