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35936"/>
        <c:axId val="80903484"/>
      </c:barChart>
      <c:catAx>
        <c:axId val="16135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3484"/>
        <c:crosses val="autoZero"/>
        <c:auto val="1"/>
        <c:lblAlgn val="ctr"/>
        <c:lblOffset val="100"/>
        <c:noMultiLvlLbl val="0"/>
      </c:catAx>
      <c:valAx>
        <c:axId val="8090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35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7F9-EA7E-4FFB-902A-8F224EC4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67C-751C-4210-AC8E-3D2389B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76B-0B9D-4DD4-8536-010CCA89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B5A-A91E-43D1-BF8D-449EE7F7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865-EF43-4247-85A1-2DBD9EE3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66F-4B2F-4352-8F48-8A55F887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F2A-D163-4C74-AE8B-089160D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678-52B7-43C9-99CE-059C1E6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A42-5AEA-41CC-84A7-C81DEF90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F53-9CF3-44CD-9983-248381D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635-AE16-4B70-9C95-5739912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5F2-AC03-4C81-B1AF-BDB5C0D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BC5D5-318A-46C4-BE07-B298DA05D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