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16277"/>
        <c:axId val="79176127"/>
      </c:barChart>
      <c:catAx>
        <c:axId val="18116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76127"/>
        <c:crosses val="autoZero"/>
        <c:auto val="1"/>
        <c:lblAlgn val="ctr"/>
        <c:lblOffset val="100"/>
        <c:noMultiLvlLbl val="0"/>
      </c:catAx>
      <c:valAx>
        <c:axId val="79176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16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5F6-7ABE-4B1C-9D4E-1554B7A7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9E8-0304-4CAD-A82A-9F471EFF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55D-D591-4540-BE14-E5B9C167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FA5-396D-46A2-ABA9-96609DE7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0C2-692F-418D-8658-29242D7A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C9A-1C72-464C-853F-9ECF19D3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3D5-3B7D-4684-ACB4-BBAD772A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5FA-CDC1-4D28-9997-848EBB4B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FBC-C953-4643-B472-C764492C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B3A-3C5B-4631-9121-E846A63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729-0593-4D11-B51B-DC21FD98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8C2-EF48-4930-9A7E-FB24F0CC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51804-B7EF-492A-A116-D9E057541A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